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4E7E-9178-4BDD-BAEF-6D9A97993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16DD-2842-43C9-8DDA-B6BB977FB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biopic/yelcact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7A15-C953-42B9-A22E-07F66C3B3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combined wit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E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form 4-carb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nzyme PEP carboxylase)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transported in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ndle-shea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ecarboxylated form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ters the Calvi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5726-7BA9-4CC3-928F-5463D99E0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any.hawaii.edu/faculty/webb/bot311/bot311-00/psyn/PsynDark2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EEF3-2C5D-473C-81B3-AA1D8F175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E6A7-1C88-4EA7-B2C7-582A12262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ssulacean acid metabolism (CA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irst discovered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assulac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mily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ta are closed during the day, so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only absorb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way at night,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way (Calvin cycle)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BE61-CAB3-4FC8-B4E4-B5402B1B1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78EE-7FC0-4F16-B4CE-4E2EEB0CB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6078-3E6A-48B3-96BC-12DEB93DC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B7E1-F861-402A-8FCE-0ADC509E4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afety4sea.com/page/14377/3/progress-in-fuel-creation-from-carbon-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C2F5-5489-47C5-89AF-2AD809E51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assel.unl.edu/pages/informationmodule.php?idinformationmodule=1092853841&amp;topicorder=5&amp;maxto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2758-973B-4294-B426-438D3909C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cbi.nlm.nih.gov/books/NBK22344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7D5A-0065-49ED-8873-5FCCE0286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4CBC-1B51-48FD-9C7D-320D7D39C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m.wikipedia.org/wiki/File:Simplified_photorespiration_diagram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CD76-39FD-4CCC-BD2C-5734667E3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8264-9D36-4A98-81FF-063ECBFDE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DAA-59BA-4C64-8534-1A4F3373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ABE-2737-4672-97D2-F044749B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CB4-EE8F-46B3-A928-86893340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8A90-2A40-48E8-AD4C-9ED5A921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FBF-76F7-438D-8751-6FA50CD9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B2C4-95D2-4BC8-AB82-20FF88BB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2BA-AAA0-4A12-9401-7B2E60F4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01B-91FF-4D63-BE45-080618B3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707-EE25-4DAD-AA0D-F0D7EDD7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A46-D51E-4271-9A0E-C1C00202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984-32B2-46A8-93CE-E7CE2DA4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C2A-2070-485D-B817-DE48CC24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A969-5D16-46F6-9FA3-A0544A45F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ernative Mechanisms of Carbon Fix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alc4"/>
          <p:cNvPicPr/>
          <p:nvPr/>
        </p:nvPicPr>
        <p:blipFill>
          <a:blip r:embed="rId1"/>
          <a:stretch/>
        </p:blipFill>
        <p:spPr>
          <a:xfrm>
            <a:off x="2685960" y="1981080"/>
            <a:ext cx="377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age62"/>
          <p:cNvPicPr/>
          <p:nvPr/>
        </p:nvPicPr>
        <p:blipFill>
          <a:blip r:embed="rId1"/>
          <a:stretch/>
        </p:blipFill>
        <p:spPr>
          <a:xfrm>
            <a:off x="1249200" y="1981080"/>
            <a:ext cx="664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orghum"/>
          <p:cNvPicPr/>
          <p:nvPr/>
        </p:nvPicPr>
        <p:blipFill>
          <a:blip r:embed="rId1"/>
          <a:stretch/>
        </p:blipFill>
        <p:spPr>
          <a:xfrm>
            <a:off x="1252440" y="1981080"/>
            <a:ext cx="267516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corn ears"/>
          <p:cNvPicPr/>
          <p:nvPr/>
        </p:nvPicPr>
        <p:blipFill>
          <a:blip r:embed="rId2"/>
          <a:stretch/>
        </p:blipFill>
        <p:spPr>
          <a:xfrm>
            <a:off x="5313240" y="4114800"/>
            <a:ext cx="247968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Sugar Cane Field 1"/>
          <p:cNvPicPr/>
          <p:nvPr/>
        </p:nvPicPr>
        <p:blipFill>
          <a:blip r:embed="rId3"/>
          <a:stretch/>
        </p:blipFill>
        <p:spPr>
          <a:xfrm>
            <a:off x="4800600" y="1981080"/>
            <a:ext cx="2092320" cy="198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PEARL-mILLET"/>
          <p:cNvPicPr/>
          <p:nvPr/>
        </p:nvPicPr>
        <p:blipFill>
          <a:blip r:embed="rId4"/>
          <a:stretch/>
        </p:blipFill>
        <p:spPr>
          <a:xfrm>
            <a:off x="17780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alcam"/>
          <p:cNvPicPr/>
          <p:nvPr/>
        </p:nvPicPr>
        <p:blipFill>
          <a:blip r:embed="rId1"/>
          <a:stretch/>
        </p:blipFill>
        <p:spPr>
          <a:xfrm>
            <a:off x="1808280" y="1981080"/>
            <a:ext cx="552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jade_plant01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rickly-pear-cactus-1"/>
          <p:cNvPicPr/>
          <p:nvPr/>
        </p:nvPicPr>
        <p:blipFill>
          <a:blip r:embed="rId2"/>
          <a:stretch/>
        </p:blipFill>
        <p:spPr>
          <a:xfrm>
            <a:off x="5557680" y="4114800"/>
            <a:ext cx="198612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ineapple"/>
          <p:cNvPicPr/>
          <p:nvPr/>
        </p:nvPicPr>
        <p:blipFill>
          <a:blip r:embed="rId3"/>
          <a:stretch/>
        </p:blipFill>
        <p:spPr>
          <a:xfrm>
            <a:off x="1846440" y="4114800"/>
            <a:ext cx="148896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ram's_head_orchid_plant"/>
          <p:cNvPicPr/>
          <p:nvPr/>
        </p:nvPicPr>
        <p:blipFill>
          <a:blip r:embed="rId4"/>
          <a:stretch/>
        </p:blipFill>
        <p:spPr>
          <a:xfrm>
            <a:off x="5989680" y="1981080"/>
            <a:ext cx="1127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M pl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uic.edu/classes/bios/bios100/lectures/c4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elf-quiz multiple choice quizzes from McGraw-Hill Ryer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sites/0070271348/student_view0/chapter6/chapter_quiz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sites/0073403474/student_view0/chapter5/pre-tes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plants ne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hotosynthe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4% of atmosphere i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is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arbon_emmission_co2_smoke"/>
          <p:cNvPicPr/>
          <p:nvPr/>
        </p:nvPicPr>
        <p:blipFill>
          <a:blip r:embed="rId1"/>
          <a:stretch/>
        </p:blipFill>
        <p:spPr>
          <a:xfrm>
            <a:off x="4343400" y="2505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plants need to limit water loss &amp; adapt to water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axy cu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K+_opne&amp;closed-LG"/>
          <p:cNvPicPr/>
          <p:nvPr/>
        </p:nvPicPr>
        <p:blipFill>
          <a:blip r:embed="rId1"/>
          <a:stretch/>
        </p:blipFill>
        <p:spPr>
          <a:xfrm>
            <a:off x="5370480" y="1676520"/>
            <a:ext cx="2517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ulose-1,5-bisphosph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xylase oxid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isCO catalyzes the first reaction of the Calvi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catalyze reaction between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h20f3"/>
          <p:cNvPicPr/>
          <p:nvPr/>
        </p:nvPicPr>
        <p:blipFill>
          <a:blip r:embed="rId1"/>
          <a:stretch/>
        </p:blipFill>
        <p:spPr>
          <a:xfrm>
            <a:off x="4719600" y="2209680"/>
            <a:ext cx="366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molecule of 3-P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duces a molecule that is not useful to the cell that must be removed in a series of reactions, which use ATP release 1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Simplified_photorespiration_diagram"/>
          <p:cNvPicPr/>
          <p:nvPr/>
        </p:nvPicPr>
        <p:blipFill>
          <a:blip r:embed="rId1"/>
          <a:stretch/>
        </p:blipFill>
        <p:spPr>
          <a:xfrm>
            <a:off x="152280" y="887400"/>
            <a:ext cx="89154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isCO has a higher affinity for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inds to it 75%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t &amp; dry clim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close &amp; relati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 decreases due to 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a pl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3:23:18Z</dcterms:created>
  <dc:creator>rubina khan</dc:creator>
  <dc:description/>
  <dc:language>en-US</dc:language>
  <cp:lastModifiedBy>rubina khan</cp:lastModifiedBy>
  <dcterms:modified xsi:type="dcterms:W3CDTF">2015-10-27T01:15:34Z</dcterms:modified>
  <cp:revision>127</cp:revision>
  <dc:subject/>
  <dc:title>Photosynthesis</dc:title>
</cp:coreProperties>
</file>